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B0B3-78D2-45AB-A3A1-37C0D3C5B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E9EF-FAFF-4DFA-9D8A-BA7F48567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E5FD8-9F46-4B82-8722-388B132FF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36F2-B1F3-4A5B-9D30-DAC536E9B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7903-07E1-4BBA-A81B-CF0615D3A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82916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230280" y="321264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40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182916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3230280" y="3664080"/>
            <a:ext cx="133380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4143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DF8B-51BC-434A-B59A-5AB4B3389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7913-7CDB-4F56-BB63-3171CE06B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C53C-A921-4B30-8011-C7D8C733E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2171880"/>
            <a:ext cx="414324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55E1-D96A-4CAF-B115-E60619E66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D9A6-3CC9-4EE5-A4F2-91433657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51680" y="366408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EE9-7BAF-4CE5-8865-AF1D65F2F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840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51680" y="3212640"/>
            <a:ext cx="202176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400" y="3664080"/>
            <a:ext cx="4143240" cy="4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8B5F-FAEC-44DB-9A0E-45C6AA89D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549000"/>
            <a:ext cx="81532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312920"/>
            <a:ext cx="815328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241200" indent="-239760">
              <a:spcAft>
                <a:spcPts val="1125"/>
              </a:spcAft>
              <a:buClr>
                <a:srgbClr val="d2bb6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46188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682560" indent="-21888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914400" indent="-230040">
              <a:spcAft>
                <a:spcPts val="1125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914400" indent="-230040">
              <a:spcAft>
                <a:spcPts val="1125"/>
              </a:spcAft>
              <a:buClr>
                <a:srgbClr val="000000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657920" y="6622560"/>
            <a:ext cx="137772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d2bb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3E63-CCCA-4356-86C9-8CFC74C5AF7D}" type="slidenum">
              <a:rPr b="0" lang="en-GB" sz="800" spc="-1" strike="noStrike">
                <a:solidFill>
                  <a:srgbClr val="d2bb68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33605"/>
          <a:stretch/>
        </p:blipFill>
        <p:spPr>
          <a:xfrm>
            <a:off x="8159760" y="185760"/>
            <a:ext cx="863640" cy="5731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00" y="2171880"/>
            <a:ext cx="41432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720" y="6270480"/>
            <a:ext cx="17290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QinetiQ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82840" y="6581880"/>
            <a:ext cx="2806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77000"/>
            <a:ext cx="9144000" cy="19044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100000">
                <a:srgbClr val="003366">
                  <a:alpha val="4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79800" y="6635880"/>
            <a:ext cx="28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2bb68"/>
                </a:solidFill>
                <a:latin typeface="Arial"/>
                <a:ea typeface="ＭＳ Ｐゴシック"/>
              </a:rPr>
              <a:t>© Copyright QinetiQ limited 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6459480"/>
            <a:ext cx="21290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2bb68"/>
                </a:solidFill>
                <a:latin typeface="Arial"/>
              </a:rPr>
              <a:t>www.QinetiQ/etp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0" t="67279" r="0" b="0"/>
          <a:stretch/>
        </p:blipFill>
        <p:spPr>
          <a:xfrm>
            <a:off x="247680" y="6154560"/>
            <a:ext cx="1446120" cy="559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1440" indent="0"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24300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3" marL="46368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684360" algn="ctr">
              <a:spcAft>
                <a:spcPts val="876"/>
              </a:spcAft>
              <a:buClr>
                <a:srgbClr val="d2bb68"/>
              </a:buClr>
              <a:buFont typeface="TheSans Q5 Plain"/>
              <a:buChar char="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684360">
              <a:spcBef>
                <a:spcPts val="349"/>
              </a:spcBef>
              <a:buClr>
                <a:srgbClr val="000000"/>
              </a:buClr>
              <a:buFont typeface="TheSans Q5 Plai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8840" y="1552680"/>
            <a:ext cx="6248160" cy="15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light Test Safety Workshop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42760" y="3355920"/>
            <a:ext cx="545796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ger H Beazle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erospace Advis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inetiQ/ETPS U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48:41Z</dcterms:created>
  <dc:creator/>
  <dc:description/>
  <dc:language>en-US</dc:language>
  <cp:lastModifiedBy>thomas.roberts</cp:lastModifiedBy>
  <dcterms:modified xsi:type="dcterms:W3CDTF">2007-05-09T02:36:05Z</dcterms:modified>
  <cp:revision>171</cp:revision>
  <dc:subject/>
  <dc:title>Presentation title</dc:title>
</cp:coreProperties>
</file>